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998E-2FE9-4B1A-A44D-56F9311CA4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2C14-06A5-43E7-87CB-674B0B0AFB8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964C-FF68-4C87-9C93-0EFFC26ECFC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075B-0C20-4616-997E-EF5FA780689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EB59-C9D8-40E4-AECC-E3F3B645F1B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1375-4BDE-4D33-B7E3-CECDBC8ECF4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848E-9CF4-4558-9C0F-FDAB751F573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DA7B-0BAA-4E2B-89E3-5DA6102A0E1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D601-7909-4D84-B3E3-418CE471AA9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5F6F-9B3A-4F31-B4CD-F6E5895EE43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95A5-FA9A-4551-95FF-D9C36895872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2CEE-9710-472E-96A3-048A02AB24F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AC14-92A4-4E9F-963A-EB97BC96EB2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3F4A-B969-4A80-B952-91EAE6B13BA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E7E-47A8-491C-9EB8-7E007DBAE49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599B-0EAF-4935-AD3D-B5BB978249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92E6-2978-4558-A0E8-F5A4390DA4D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B2DB-2A79-4B5F-9CEB-0B136B630C0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052B-96C4-4D04-8BFD-941B97774C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42A6-4682-4577-BA09-DDAF05D1D92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81AD-4D75-43AD-AFE3-E9EC2F32C2F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2619-E53F-4110-9463-6BC44607416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F7D-987D-4794-BC61-FFBC8A68DA3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D1BC-47B8-493A-B495-A684BE88755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4DE0-1B4F-4091-9CD4-05E516D91BF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E4EF-95F3-467E-B9A4-B6A416D4F8C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16A8-E33A-4B6E-B5E1-7DA65C63962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9F0B-63B6-4143-85A1-55ED70DB536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95ED-D5EC-4536-AF72-8FC4A8854B0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7E4-A6F3-4CD0-AA82-FA95F800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755-105F-4613-A8C3-3E018CC0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946-87A9-4249-BA4D-8B5AC995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60B-1083-429D-88CD-3D74ED86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17FA-298E-41DB-BB1A-BC2803B5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FE52-DBE3-4E52-8433-E25E88BD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6D31-026C-459B-92CC-B672D8B1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0E5F-C3DE-4D8E-8115-0D9BA59C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F0E4-6423-481A-8182-B3EA5BAA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D985-AAAF-497B-B4FE-13E438C0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F3DE-8835-4550-BB25-567DABC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609-4FBD-44B4-B090-E4B62287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4B0C-EAC6-4139-A9B2-8AF6D50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F08-9359-4245-B10A-805F6A81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B0A0-4D07-4856-B38E-E57F54FA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4722-2F68-450B-A371-3A05CFF3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D04-8611-4508-8B46-F4FF0D89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18B-7026-4FA8-BD00-79AB38A4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B1C-C0A5-4F9B-904E-FF377442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C93-BE06-4AF8-BCC3-11169E63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AAD-3EFC-402F-BE87-E9CF74F7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0B1-5D80-4E32-A7ED-AAF6922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36C-AE6E-452C-8373-F4E1E582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ED2-D0FC-4287-89B6-C331D7EA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84DC-B82F-4622-BE49-CE7B941293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0CF0-6AE5-4B06-991A-1587D807EE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reshmeat.net/projects/rxtx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dbu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ojeto Integrado 7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unicação PC-LPCxp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error message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20840" y="1676520"/>
            <a:ext cx="6495840" cy="49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981080" y="2386080"/>
            <a:ext cx="53341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s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9067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la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09520" y="1981080"/>
            <a:ext cx="89344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I7Bu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Bus para PI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post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ransferência de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r/suspender/continuar exec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ição a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tion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r/suspender/continuar exec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Write Multiple Registers (FC 0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ição a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ad Multiple Registers (FC 0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ransferência de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Write File (FC 2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pa de “memória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86944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51640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5"/>
          <p:cNvGrpSpPr/>
          <p:nvPr/>
        </p:nvGrpSpPr>
        <p:grpSpPr>
          <a:xfrm>
            <a:off x="1602720" y="1905120"/>
            <a:ext cx="4954680" cy="444240"/>
            <a:chOff x="1602720" y="1905120"/>
            <a:chExt cx="4954680" cy="444240"/>
          </a:xfrm>
        </p:grpSpPr>
        <p:sp>
          <p:nvSpPr>
            <p:cNvPr id="149" name="Rectangle 4"/>
            <p:cNvSpPr/>
            <p:nvPr/>
          </p:nvSpPr>
          <p:spPr>
            <a:xfrm>
              <a:off x="2514600" y="198108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1602720" y="19051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ici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625032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23"/>
          <p:cNvSpPr/>
          <p:nvPr/>
        </p:nvSpPr>
        <p:spPr>
          <a:xfrm>
            <a:off x="1148040" y="609588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: códigoG (1byte), coordX(2bytes), coordY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1603440" y="2209680"/>
            <a:ext cx="4953960" cy="444240"/>
            <a:chOff x="1603440" y="2209680"/>
            <a:chExt cx="4953960" cy="444240"/>
          </a:xfrm>
        </p:grpSpPr>
        <p:sp>
          <p:nvSpPr>
            <p:cNvPr id="154" name="Rectangle 27"/>
            <p:cNvSpPr/>
            <p:nvPr/>
          </p:nvSpPr>
          <p:spPr>
            <a:xfrm>
              <a:off x="2514600" y="228564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8"/>
            <p:cNvSpPr/>
            <p:nvPr/>
          </p:nvSpPr>
          <p:spPr>
            <a:xfrm>
              <a:off x="1603440" y="22096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uspe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9"/>
            <p:cNvSpPr/>
            <p:nvPr/>
          </p:nvSpPr>
          <p:spPr>
            <a:xfrm>
              <a:off x="6250320" y="228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0"/>
          <p:cNvGrpSpPr/>
          <p:nvPr/>
        </p:nvGrpSpPr>
        <p:grpSpPr>
          <a:xfrm>
            <a:off x="1603440" y="2514600"/>
            <a:ext cx="4953960" cy="444240"/>
            <a:chOff x="1603440" y="2514600"/>
            <a:chExt cx="4953960" cy="444240"/>
          </a:xfrm>
        </p:grpSpPr>
        <p:sp>
          <p:nvSpPr>
            <p:cNvPr id="158" name="Rectangle 31"/>
            <p:cNvSpPr/>
            <p:nvPr/>
          </p:nvSpPr>
          <p:spPr>
            <a:xfrm>
              <a:off x="2514600" y="259056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32"/>
            <p:cNvSpPr/>
            <p:nvPr/>
          </p:nvSpPr>
          <p:spPr>
            <a:xfrm>
              <a:off x="1603440" y="251460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tinu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33"/>
            <p:cNvSpPr/>
            <p:nvPr/>
          </p:nvSpPr>
          <p:spPr>
            <a:xfrm>
              <a:off x="6250320" y="259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4"/>
          <p:cNvGrpSpPr/>
          <p:nvPr/>
        </p:nvGrpSpPr>
        <p:grpSpPr>
          <a:xfrm>
            <a:off x="1602360" y="2819520"/>
            <a:ext cx="4955040" cy="444240"/>
            <a:chOff x="1602360" y="2819520"/>
            <a:chExt cx="4955040" cy="444240"/>
          </a:xfrm>
        </p:grpSpPr>
        <p:sp>
          <p:nvSpPr>
            <p:cNvPr id="162" name="Rectangle 35"/>
            <p:cNvSpPr/>
            <p:nvPr/>
          </p:nvSpPr>
          <p:spPr>
            <a:xfrm>
              <a:off x="2514600" y="289548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36"/>
            <p:cNvSpPr/>
            <p:nvPr/>
          </p:nvSpPr>
          <p:spPr>
            <a:xfrm>
              <a:off x="1602360" y="281952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bor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7"/>
            <p:cNvSpPr/>
            <p:nvPr/>
          </p:nvSpPr>
          <p:spPr>
            <a:xfrm>
              <a:off x="6250320" y="2895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8"/>
          <p:cNvGrpSpPr/>
          <p:nvPr/>
        </p:nvGrpSpPr>
        <p:grpSpPr>
          <a:xfrm>
            <a:off x="1602360" y="3124080"/>
            <a:ext cx="4955040" cy="444240"/>
            <a:chOff x="1602360" y="3124080"/>
            <a:chExt cx="4955040" cy="444240"/>
          </a:xfrm>
        </p:grpSpPr>
        <p:sp>
          <p:nvSpPr>
            <p:cNvPr id="166" name="Rectangle 39"/>
            <p:cNvSpPr/>
            <p:nvPr/>
          </p:nvSpPr>
          <p:spPr>
            <a:xfrm>
              <a:off x="2514600" y="320004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0"/>
            <p:cNvSpPr/>
            <p:nvPr/>
          </p:nvSpPr>
          <p:spPr>
            <a:xfrm>
              <a:off x="1602360" y="312408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Jog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1"/>
            <p:cNvSpPr/>
            <p:nvPr/>
          </p:nvSpPr>
          <p:spPr>
            <a:xfrm>
              <a:off x="6250320" y="320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2"/>
          <p:cNvGrpSpPr/>
          <p:nvPr/>
        </p:nvGrpSpPr>
        <p:grpSpPr>
          <a:xfrm>
            <a:off x="1602360" y="3429000"/>
            <a:ext cx="4955040" cy="444240"/>
            <a:chOff x="1602360" y="3429000"/>
            <a:chExt cx="4955040" cy="444240"/>
          </a:xfrm>
        </p:grpSpPr>
        <p:sp>
          <p:nvSpPr>
            <p:cNvPr id="170" name="Rectangle 43"/>
            <p:cNvSpPr/>
            <p:nvPr/>
          </p:nvSpPr>
          <p:spPr>
            <a:xfrm>
              <a:off x="2514600" y="350496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4"/>
            <p:cNvSpPr/>
            <p:nvPr/>
          </p:nvSpPr>
          <p:spPr>
            <a:xfrm>
              <a:off x="1602360" y="34290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J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5"/>
            <p:cNvSpPr/>
            <p:nvPr/>
          </p:nvSpPr>
          <p:spPr>
            <a:xfrm>
              <a:off x="6250320" y="350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6"/>
          <p:cNvGrpSpPr/>
          <p:nvPr/>
        </p:nvGrpSpPr>
        <p:grpSpPr>
          <a:xfrm>
            <a:off x="1602360" y="3733920"/>
            <a:ext cx="4955040" cy="444240"/>
            <a:chOff x="1602360" y="3733920"/>
            <a:chExt cx="4955040" cy="444240"/>
          </a:xfrm>
        </p:grpSpPr>
        <p:sp>
          <p:nvSpPr>
            <p:cNvPr id="174" name="Rectangle 47"/>
            <p:cNvSpPr/>
            <p:nvPr/>
          </p:nvSpPr>
          <p:spPr>
            <a:xfrm>
              <a:off x="2514600" y="380988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48"/>
            <p:cNvSpPr/>
            <p:nvPr/>
          </p:nvSpPr>
          <p:spPr>
            <a:xfrm>
              <a:off x="1602360" y="3733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ass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9"/>
            <p:cNvSpPr/>
            <p:nvPr/>
          </p:nvSpPr>
          <p:spPr>
            <a:xfrm>
              <a:off x="6250320" y="380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50"/>
          <p:cNvGrpSpPr/>
          <p:nvPr/>
        </p:nvGrpSpPr>
        <p:grpSpPr>
          <a:xfrm>
            <a:off x="1602360" y="4038480"/>
            <a:ext cx="4955040" cy="444240"/>
            <a:chOff x="1602360" y="4038480"/>
            <a:chExt cx="4955040" cy="444240"/>
          </a:xfrm>
        </p:grpSpPr>
        <p:sp>
          <p:nvSpPr>
            <p:cNvPr id="178" name="Rectangle 51"/>
            <p:cNvSpPr/>
            <p:nvPr/>
          </p:nvSpPr>
          <p:spPr>
            <a:xfrm>
              <a:off x="2514600" y="411444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2"/>
            <p:cNvSpPr/>
            <p:nvPr/>
          </p:nvSpPr>
          <p:spPr>
            <a:xfrm>
              <a:off x="1602360" y="40384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ass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3"/>
            <p:cNvSpPr/>
            <p:nvPr/>
          </p:nvSpPr>
          <p:spPr>
            <a:xfrm>
              <a:off x="6250320" y="4114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4"/>
          <p:cNvGrpSpPr/>
          <p:nvPr/>
        </p:nvGrpSpPr>
        <p:grpSpPr>
          <a:xfrm>
            <a:off x="1602000" y="4343400"/>
            <a:ext cx="4955400" cy="444240"/>
            <a:chOff x="1602000" y="4343400"/>
            <a:chExt cx="4955400" cy="444240"/>
          </a:xfrm>
        </p:grpSpPr>
        <p:sp>
          <p:nvSpPr>
            <p:cNvPr id="182" name="Rectangle 55"/>
            <p:cNvSpPr/>
            <p:nvPr/>
          </p:nvSpPr>
          <p:spPr>
            <a:xfrm>
              <a:off x="2514600" y="441936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6"/>
            <p:cNvSpPr/>
            <p:nvPr/>
          </p:nvSpPr>
          <p:spPr>
            <a:xfrm>
              <a:off x="1602000" y="434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7"/>
            <p:cNvSpPr/>
            <p:nvPr/>
          </p:nvSpPr>
          <p:spPr>
            <a:xfrm>
              <a:off x="6250320" y="441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58"/>
          <p:cNvGrpSpPr/>
          <p:nvPr/>
        </p:nvGrpSpPr>
        <p:grpSpPr>
          <a:xfrm>
            <a:off x="1602000" y="4648320"/>
            <a:ext cx="4955400" cy="444240"/>
            <a:chOff x="1602000" y="4648320"/>
            <a:chExt cx="4955400" cy="444240"/>
          </a:xfrm>
        </p:grpSpPr>
        <p:sp>
          <p:nvSpPr>
            <p:cNvPr id="186" name="Rectangle 59"/>
            <p:cNvSpPr/>
            <p:nvPr/>
          </p:nvSpPr>
          <p:spPr>
            <a:xfrm>
              <a:off x="2514600" y="472428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60"/>
            <p:cNvSpPr/>
            <p:nvPr/>
          </p:nvSpPr>
          <p:spPr>
            <a:xfrm>
              <a:off x="1602000" y="4648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1"/>
            <p:cNvSpPr/>
            <p:nvPr/>
          </p:nvSpPr>
          <p:spPr>
            <a:xfrm>
              <a:off x="6250320" y="472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2"/>
          <p:cNvGrpSpPr/>
          <p:nvPr/>
        </p:nvGrpSpPr>
        <p:grpSpPr>
          <a:xfrm>
            <a:off x="1603080" y="4952880"/>
            <a:ext cx="5081400" cy="444240"/>
            <a:chOff x="1603080" y="4952880"/>
            <a:chExt cx="5081400" cy="444240"/>
          </a:xfrm>
        </p:grpSpPr>
        <p:sp>
          <p:nvSpPr>
            <p:cNvPr id="190" name="Rectangle 63"/>
            <p:cNvSpPr/>
            <p:nvPr/>
          </p:nvSpPr>
          <p:spPr>
            <a:xfrm>
              <a:off x="2514600" y="502884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4"/>
            <p:cNvSpPr/>
            <p:nvPr/>
          </p:nvSpPr>
          <p:spPr>
            <a:xfrm>
              <a:off x="1603080" y="4952880"/>
              <a:ext cx="7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Li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65"/>
            <p:cNvSpPr/>
            <p:nvPr/>
          </p:nvSpPr>
          <p:spPr>
            <a:xfrm>
              <a:off x="6250680" y="5028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0"/>
          <p:cNvGrpSpPr/>
          <p:nvPr/>
        </p:nvGrpSpPr>
        <p:grpSpPr>
          <a:xfrm>
            <a:off x="1602720" y="5257800"/>
            <a:ext cx="5437800" cy="444240"/>
            <a:chOff x="1602720" y="5257800"/>
            <a:chExt cx="5437800" cy="444240"/>
          </a:xfrm>
        </p:grpSpPr>
        <p:sp>
          <p:nvSpPr>
            <p:cNvPr id="194" name="Rectangle 71"/>
            <p:cNvSpPr/>
            <p:nvPr/>
          </p:nvSpPr>
          <p:spPr>
            <a:xfrm>
              <a:off x="2514600" y="5333760"/>
              <a:ext cx="3733920" cy="3049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2"/>
            <p:cNvSpPr/>
            <p:nvPr/>
          </p:nvSpPr>
          <p:spPr>
            <a:xfrm>
              <a:off x="1602720" y="52578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3"/>
            <p:cNvSpPr/>
            <p:nvPr/>
          </p:nvSpPr>
          <p:spPr>
            <a:xfrm>
              <a:off x="6250320" y="5333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1..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ad Register FC=0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857160" y="2000160"/>
            <a:ext cx="7429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ception Codes para FC=0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523880" y="1479600"/>
            <a:ext cx="60199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Write Register FC=06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800280" y="1967040"/>
            <a:ext cx="75438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ception Codes para FC=06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600200" y="1481040"/>
            <a:ext cx="59436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otocolo ModBu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imeiro protocolo a gente nunca esquec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Write File FC=2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914400" y="2239920"/>
            <a:ext cx="6095880" cy="4618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939960" y="1752480"/>
            <a:ext cx="60958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ception Codes para FC=2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066680" y="1449360"/>
            <a:ext cx="632484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I7Bus no P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éias para a imple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erramen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o à serial pelo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freshmeat.net/projects/rxtx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XTXcomm.jar goes in \jre\lib\ext (under ja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xtxSerial.dll goes in \jre\b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yper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istente no Windows X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wnload para Vista, W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sig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5" name="Picture 4" descr="comunicacao"/>
          <p:cNvPicPr/>
          <p:nvPr/>
        </p:nvPicPr>
        <p:blipFill>
          <a:blip r:embed="rId1"/>
          <a:stretch/>
        </p:blipFill>
        <p:spPr>
          <a:xfrm>
            <a:off x="1447920" y="1523880"/>
            <a:ext cx="662940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dific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 como thread indepen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s de comunicação não podem ser acionados ao mesmo tempo pelo Controller e pelo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so de synchron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mer para tempo máximo de recep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I7Bus no LP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éias para imple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sig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Imagem 1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701676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mpleme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o d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o que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tocolo ModB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do pela Modicom em 1979 para comunicação entre PL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ido por The Modbus Association (</a:t>
            </a:r>
            <a:r>
              <a:rPr b="0" lang="pt-BR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modbus.or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ande número de produtos utilizam o protocolo (PLCs, drivers AC/DC, HMI, sensor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per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ster-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odbus query-response"/>
          <p:cNvPicPr/>
          <p:nvPr/>
        </p:nvPicPr>
        <p:blipFill>
          <a:blip r:embed="rId1"/>
          <a:stretch/>
        </p:blipFill>
        <p:spPr>
          <a:xfrm>
            <a:off x="1523880" y="2743200"/>
            <a:ext cx="6553440" cy="2583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513440" y="567540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orte a múltiplos dispositivos na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Top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ela com RS2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rramento com RS485,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47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rame (mensagem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6" descr="modbus frame"/>
          <p:cNvPicPr/>
          <p:nvPr/>
        </p:nvPicPr>
        <p:blipFill>
          <a:blip r:embed="rId1"/>
          <a:stretch/>
        </p:blipFill>
        <p:spPr>
          <a:xfrm>
            <a:off x="762120" y="1828800"/>
            <a:ext cx="8134200" cy="13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787320" y="4127400"/>
            <a:ext cx="815364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81626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unction co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663040" cy="4270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02880" y="62848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sta parcial de Func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LR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4480" y="2286000"/>
            <a:ext cx="902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dCoils (FC=01) 20..56 do Device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429080" cy="241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4562640" y="3819600"/>
            <a:ext cx="4581360" cy="3038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174000" y="2743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517840" y="5410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 rot="1594800">
            <a:off x="5333760" y="289548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rot="12944400">
            <a:off x="3581280" y="46483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0:26:16Z</dcterms:created>
  <dc:creator>Marcos Barretto</dc:creator>
  <dc:description/>
  <dc:language>en-US</dc:language>
  <cp:lastModifiedBy>Marcos</cp:lastModifiedBy>
  <dcterms:modified xsi:type="dcterms:W3CDTF">2013-05-27T21:02:22Z</dcterms:modified>
  <cp:revision>43</cp:revision>
  <dc:subject/>
  <dc:title>PMRXXX</dc:title>
</cp:coreProperties>
</file>